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068-566D-4171-B6B7-6D98B6E6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029-E644-4B7E-9DF2-B293EACE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D25-CF40-4B28-9566-FD517B76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3C8-7886-492E-9F9C-9FB93C68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A56-0F44-4F7C-AEFC-19B19407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715D-E437-4113-BBC2-BDAE89ED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8DD9-261E-48DF-9B52-01590A2F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AD75-48C5-47C4-96B9-F38F1BA0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EEF3-7F12-4C2C-9C3A-C56C245A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6C0B-4197-45A7-BFB5-06BA3FA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BA5D-0828-4528-B5F2-C012D8D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58D-1F98-4F8C-A12B-CE4285B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02E5-6C03-46DB-A61F-2729258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451F-ECD1-447E-BF2C-355B291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9C3-54CE-4820-9D0B-D4D7FD8B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86EC-B068-4E7E-9DED-0D0BAA21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F09E-54C0-48C0-AA73-BF1D8178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2E5-58D8-45CF-A0EE-514A219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9BF-BF18-46E1-BA57-21D626B6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D83-FED6-445B-AB89-1E07C19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EB6-D26D-4563-A97F-CD68E668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217-B4A0-4835-92DC-B5EB4B6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004-AEF4-43CE-86F1-C47204B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2B1-3B17-4A6D-8926-6A648C3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813E-8AE9-45D3-90C4-122402EB9F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50000">
                  <a:srgbClr val="00ffff"/>
                </a:gs>
                <a:gs pos="100000">
                  <a:srgbClr val="00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618-B514-4F37-8CB5-86766CDE04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81080" y="1905120"/>
            <a:ext cx="5410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een Light"/>
              </a:rPr>
              <a:t>What is a Planet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een Light"/>
              <a:ea typeface="Teen Light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97204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en Light"/>
              </a:rPr>
              <a:t>By Bailey Yancey, Lakyn Kearns, and Mary Grace DeSil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-152280" y="-122400"/>
          <a:ext cx="9296280" cy="698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-122400"/>
                    <a:ext cx="9296280" cy="69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nets ar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73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cording to our requirements, the following objects in space are planet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523880"/>
            <a:ext cx="358164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rregular object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ume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kemak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r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12193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ff"/>
                </a:solidFill>
                <a:latin typeface="Arial"/>
              </a:rPr>
              <a:t>Thank you for watching! :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lanet i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rder for an object out in space to qualify as a planet, it must meet the following requiremen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to revolve around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avity at the equator must be 0.3 or ab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bital period must be below 100 year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bital eccentricity must be below 0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’t be rounded by it’s own gr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to be a spherical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f it does not meet these requirements, the object is an Irregular Planet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19240" y="149400"/>
          <a:ext cx="8924760" cy="67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49400"/>
                    <a:ext cx="8924760" cy="67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63440"/>
          <a:ext cx="8915400" cy="670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440"/>
                    <a:ext cx="891540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-304920" y="-474840"/>
          <a:ext cx="9753840" cy="733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-474840"/>
                    <a:ext cx="9753840" cy="733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792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92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-152280" y="-7920"/>
          <a:ext cx="9296280" cy="709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-7920"/>
                    <a:ext cx="9296280" cy="70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54:08Z</dcterms:created>
  <dc:creator>ASD</dc:creator>
  <dc:description/>
  <dc:language>en-US</dc:language>
  <cp:lastModifiedBy>ASD</cp:lastModifiedBy>
  <dcterms:modified xsi:type="dcterms:W3CDTF">2011-02-16T21:20:45Z</dcterms:modified>
  <cp:revision>14</cp:revision>
  <dc:subject/>
  <dc:title>Slide 1</dc:title>
</cp:coreProperties>
</file>